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DB54-D50D-4DCC-8D7E-5E7DFA0159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7072-A1CF-4AE2-98E3-1FE416203B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B6C9-B946-4134-A1E3-E9AC7E37F8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2CBF-684D-46F7-9996-F7677BFC55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47F1-7F6A-4F00-B3AF-1B69227889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ED07-0087-48FF-8C4E-21C2C412C95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6352-8604-4828-AB00-3D4428C5E2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4A2B-B82D-473B-802B-4D19C832CD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242A-381F-4267-873D-130DCBE162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4324-EC02-4C9E-8EF6-F699E848DFC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6297-8A16-4237-ACA0-78AA4E5943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DFD-796E-48D1-9793-BCFB274F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F36C-0411-4582-AAD0-30EF6E1D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979E-3091-4B7A-BD69-05284594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6F86-971E-447B-A63F-2B4657AF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D0E9-17A6-4A3A-9F5A-F79472B7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552-482A-4F63-A40C-23E7AF8D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A4A2-849C-47E7-A292-7E4EBE12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0FC7-7F61-4A3F-828C-9DF01984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CD3-B291-4E5F-8427-354E58EB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2BD1-94FA-47E3-9FA7-E9E5203A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D291-D498-4200-9893-E57D1498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7AA8-A2FE-4B55-BC2F-360DC4D5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72E7-1B4D-449B-91BA-0C584984366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STOPY BOŽÍ VE SVĚ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3200" y="544464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můcka k seznámení se s použitím přírodních symbolů v Bib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042920" y="2997000"/>
            <a:ext cx="6732720" cy="22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pracova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techetické a pedagogické centrum Biskupství královéhradecké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rámci projektu „Využití křesťanského dědictví ve výuce“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rčeno pouze pro výukové účel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lista-loga_barevne_mal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195640" y="5157720"/>
            <a:ext cx="4392360" cy="79524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1" descr=""/>
          <p:cNvPicPr/>
          <p:nvPr/>
        </p:nvPicPr>
        <p:blipFill>
          <a:blip r:embed="rId2"/>
          <a:stretch/>
        </p:blipFill>
        <p:spPr>
          <a:xfrm>
            <a:off x="3406680" y="314280"/>
            <a:ext cx="233064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měty k práci se žák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a náboženství využívají hojně přírodní a přirozené symboly. Na následujících snímcích naleznete odkazy na některé z n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áci dostanou jako pomůcku Bibli, pracují ve dvojicích či trojicích. Každé skupině přidělte jeden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áci si najdou příslušné texty a opíší si je. Poté diskutují, jakým způsobem autor symbol použil. Hledají souvislost mezi vlastnostmi přírodniny (v jednom případě se jedná o dítě) a situací, ve které je jako symbol použi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slunce 1"/>
          <p:cNvPicPr/>
          <p:nvPr/>
        </p:nvPicPr>
        <p:blipFill>
          <a:blip r:embed="rId1"/>
          <a:stretch/>
        </p:blipFill>
        <p:spPr>
          <a:xfrm>
            <a:off x="1042920" y="260280"/>
            <a:ext cx="7056360" cy="5345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08464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Slunce: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n 1,14.16.18; Dt 33,14; Sd 5, 31; Ž 89, 37;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l 3, 20; Mt 13, 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slunce 1"/>
          <p:cNvPicPr/>
          <p:nvPr/>
        </p:nvPicPr>
        <p:blipFill>
          <a:blip r:embed="rId1"/>
          <a:stretch/>
        </p:blipFill>
        <p:spPr>
          <a:xfrm>
            <a:off x="1042920" y="260280"/>
            <a:ext cx="70563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08464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Voda: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 104; Ez 36,24–28; Ex 17,1–7 a Iz 41,17–20 a J 4,7–15; Ř 6,3–11 a Tt 3,5–7;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slunce 1"/>
          <p:cNvPicPr/>
          <p:nvPr/>
        </p:nvPicPr>
        <p:blipFill>
          <a:blip r:embed="rId1"/>
          <a:stretch/>
        </p:blipFill>
        <p:spPr>
          <a:xfrm>
            <a:off x="1619280" y="549360"/>
            <a:ext cx="59752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48"/>
          <p:cNvPicPr/>
          <p:nvPr/>
        </p:nvPicPr>
        <p:blipFill>
          <a:blip r:embed="rId2"/>
          <a:stretch/>
        </p:blipFill>
        <p:spPr>
          <a:xfrm>
            <a:off x="684360" y="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Skála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 32,1–43 (jednodušší: 2 S 22,32.47 a Ž 62, 3.8); Mt 16,18 a 1 K 3,10–15; Mt 7,2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PA280157"/>
          <p:cNvPicPr/>
          <p:nvPr/>
        </p:nvPicPr>
        <p:blipFill>
          <a:blip r:embed="rId1"/>
          <a:stretch/>
        </p:blipFill>
        <p:spPr>
          <a:xfrm>
            <a:off x="611280" y="-387360"/>
            <a:ext cx="7991280" cy="6116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Strom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n 3,22.24 a Př 3,13–21; Oz 4,6–8 a Ez 17,22–24 a Mt 13,31–32; Oz 14,9 a J 15,1–14; Mdr 14,7–8 a Zj 2,7 a Zj 22,2.14;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hora2"/>
          <p:cNvPicPr/>
          <p:nvPr/>
        </p:nvPicPr>
        <p:blipFill>
          <a:blip r:embed="rId1"/>
          <a:stretch/>
        </p:blipFill>
        <p:spPr>
          <a:xfrm>
            <a:off x="468360" y="189000"/>
            <a:ext cx="8496360" cy="564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Hora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Ž 90,2 a J 4,20–24; Gn 19,17 a Mt 24,14–17 a Jr 3,21–23; Ex 24,12–18 a Mt 17,1–2; Ž 53,1 a J 19,17 a Zj 14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5170369"/>
          <p:cNvPicPr/>
          <p:nvPr/>
        </p:nvPicPr>
        <p:blipFill>
          <a:blip r:embed="rId1"/>
          <a:stretch/>
        </p:blipFill>
        <p:spPr>
          <a:xfrm>
            <a:off x="684360" y="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Dít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n 4,1 a Ž 128; L 2,22–24; Ž 131,2 a L 9,46–48; Mk 10,14–15 a Mt 11,25; Iz 9,1–6 a L 2,11–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P7210101"/>
          <p:cNvPicPr/>
          <p:nvPr/>
        </p:nvPicPr>
        <p:blipFill>
          <a:blip r:embed="rId1"/>
          <a:stretch/>
        </p:blipFill>
        <p:spPr>
          <a:xfrm>
            <a:off x="611280" y="0"/>
            <a:ext cx="7991280" cy="5994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Květina – lili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t 6,28–30; Ž 103,13–18 a Iz 40,5–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7:51:29Z</dcterms:created>
  <dc:creator>Katechetické a pedagogické centrum</dc:creator>
  <dc:description/>
  <dc:language>en-US</dc:language>
  <cp:lastModifiedBy>Zimmermannová Marie ThLic. Ing.</cp:lastModifiedBy>
  <dcterms:modified xsi:type="dcterms:W3CDTF">2012-07-13T17:35:02Z</dcterms:modified>
  <cp:revision>7</cp:revision>
  <dc:subject/>
  <dc:title>STOPY BOŽÍ VE SVĚTĚ</dc:title>
</cp:coreProperties>
</file>